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852761-4C64-43AC-BC9C-F8C236FB1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D804B-1FE4-4DD6-AF0C-D0D32E642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6B7E8F-5921-4235-BA8E-6F6562BCE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F741E-04AB-4721-BDAB-1D152819D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2DA61-0E3C-4BE4-BEA6-8C2C92051C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7B8DF-99A7-4DBD-BE7B-9CB3CABD1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FD8C7-63F4-4FE1-9898-A73F3AAD3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F3283-8FA7-4B46-BCD4-D8BD31437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0219E-16CD-46E6-A6D7-6848849B3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C272C-566C-4C86-A2AE-9A18B1A92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4F8BE-9947-48F0-9A33-2871FB4FC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D1E14-CA9C-46C7-90CF-0C2C22CAA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7090A-B304-4316-891D-72FE94D71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9DBC2-1FA2-4C9D-AAA3-A88515FE0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BE219-AD70-4414-BDCC-2651FE263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4404B-B696-46BD-82CE-6BFF200D8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E258CC-0CA6-4213-B90E-F13DC7B48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9654B6-55C8-4160-9DD3-E461B2F17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F4A485-9604-414F-BF35-D45414F984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BC0468-92DD-48FA-BB29-07A1BA5EBF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122947-EE2B-40C1-A583-BB749AD79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CA5802-DBB1-4BD4-B828-4DD87D1847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E3897-EA47-434A-88FB-74763324A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832796-1675-46EA-B8DD-993D8DBA3B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FD92C-55EE-4359-BB2F-82B28C23C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D4F390-1015-41C8-BA16-19C34714A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1B7CCD-AB89-45A3-88AF-D8851FFEE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A376B3-A52F-48CE-897F-230DBA7BB7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7DD72B-F727-48A2-8C34-2537F9608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CC5EAC-8E46-437C-A114-14193E7D96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BD8B37-13AD-46AD-8E8F-7A3C2274B4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20F97A-94B9-4DD4-9DE6-85AB998523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6A5D94-FB31-4C9F-B54B-0D53BD275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933FD-2784-4379-861F-A4AB3D6B1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E2F1D9-61B1-4A6B-9DA0-B7AF56D12B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362769-4BC8-4CE9-B045-893B3C5EC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E166A5-7D75-40BA-88F5-46BE6F663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864D2E-D54E-45A0-875D-898BC6CC42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57A55-EC5A-4B22-AEB3-F5C944551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EE587-94DE-4476-A92F-121FE38ACB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A0839-957A-4B32-9670-A2D3BDAA03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B2C8E2-C978-48D2-AB07-B634918437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5A96AF-6716-4A26-95AE-10E5AFD10E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7D7866-08BA-4CBD-AE02-00D6580322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4CF71-08E6-4013-AE5D-48EACE171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770BF-D75A-442C-8A4D-EA86DB197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E681C-7948-4023-84E3-E28A0C52AB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33D3F9-0933-4F8F-8C33-CBCB1D324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D5EE10-C80E-4C7A-845D-E7AE8BB8E0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60B64-739A-40E5-A456-D24662A291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4CCFE3-B54F-4224-9240-5F0E20D094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9D94A7-FB03-4C20-B1D1-91DC55DA7B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1153D-6E80-45A8-A4BE-A398EDB71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E58F1A-4D24-47FE-9EF6-39B6939615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3EE7DC-39FA-4C81-B427-2ADF3C074F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00EC-E610-4286-8F73-62ADF1C7E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BD3187-3C6C-46B7-A369-C3BEB25E0D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80E93-54CE-4827-9D48-92F6B6B81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2F8B-8FB0-4518-926B-FAB7CA1D0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548D0-85D1-413F-B6DA-BC42B3F87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3775-374C-4938-990A-C1B2DBE57292}" type="slidenum">
              <a:rPr b="0" lang="en-US"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4523-47EF-469E-9403-EBF401DEF93A}" type="slidenum">
              <a:rPr b="0" lang="en-US" sz="1100" spc="-1" strike="noStrike">
                <a:solidFill>
                  <a:srgbClr val="ffffff"/>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1272-9B44-4AA9-A950-044CA0FB005B}" type="slidenum">
              <a:rPr b="0" lang="en-US"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0DDAA-A21C-4BDD-9B2D-514DAE492464}" type="slidenum">
              <a:rPr b="0" lang="en-US" sz="1100" spc="-1" strike="noStrike">
                <a:solidFill>
                  <a:srgbClr val="f4e7ed"/>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8DDF-F722-4A47-B54D-F5766746BD52}" type="slidenum">
              <a:rPr b="0" lang="en-US" sz="1100" spc="-1" strike="noStrike">
                <a:solidFill>
                  <a:srgbClr val="b13f9a"/>
                </a:solidFill>
                <a:latin typeface="Trebuchet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3" descr=""/>
          <p:cNvPicPr/>
          <p:nvPr/>
        </p:nvPicPr>
        <p:blipFill>
          <a:blip r:embed="rId1"/>
          <a:stretch/>
        </p:blipFill>
        <p:spPr>
          <a:xfrm>
            <a:off x="378000" y="-6480"/>
            <a:ext cx="7248240" cy="1158840"/>
          </a:xfrm>
          <a:prstGeom prst="rect">
            <a:avLst/>
          </a:prstGeom>
          <a:ln w="0">
            <a:noFill/>
          </a:ln>
        </p:spPr>
      </p:pic>
      <p:sp>
        <p:nvSpPr>
          <p:cNvPr id="221" name=""/>
          <p:cNvSpPr txBox="1"/>
          <p:nvPr/>
        </p:nvSpPr>
        <p:spPr>
          <a:xfrm>
            <a:off x="457200" y="1752120"/>
            <a:ext cx="7238880" cy="35053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een Hill Elementary School has a total of 92 third grade students in 5 classes.  There are 18 more fourth grade students than third grade students.  There are 23 fewer second graders than third graders and the same number of fifth graders as fourth graders.  First grade has 3 classrooms of 18 students eac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0720" y="-6480"/>
            <a:ext cx="7255080" cy="1158840"/>
          </a:xfrm>
          <a:prstGeom prst="rect">
            <a:avLst/>
          </a:prstGeom>
          <a:ln w="0">
            <a:noFill/>
          </a:ln>
        </p:spPr>
      </p:pic>
      <p:sp>
        <p:nvSpPr>
          <p:cNvPr id="223" name=""/>
          <p:cNvSpPr txBox="1"/>
          <p:nvPr/>
        </p:nvSpPr>
        <p:spPr>
          <a:xfrm>
            <a:off x="457200" y="1218960"/>
            <a:ext cx="7238880" cy="14475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4 of the third grade classes have a total of 70 students, how many students are in the last third grade classroo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6480"/>
            <a:ext cx="7255080" cy="1158840"/>
          </a:xfrm>
          <a:prstGeom prst="rect">
            <a:avLst/>
          </a:prstGeom>
          <a:ln w="0">
            <a:noFill/>
          </a:ln>
        </p:spPr>
      </p:pic>
      <p:sp>
        <p:nvSpPr>
          <p:cNvPr id="225" name=""/>
          <p:cNvSpPr txBox="1"/>
          <p:nvPr/>
        </p:nvSpPr>
        <p:spPr>
          <a:xfrm>
            <a:off x="457200" y="1295280"/>
            <a:ext cx="7238880" cy="9050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hat is the total number of first grader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450720" y="-6480"/>
            <a:ext cx="7255080" cy="1158840"/>
          </a:xfrm>
          <a:prstGeom prst="rect">
            <a:avLst/>
          </a:prstGeom>
          <a:ln w="0">
            <a:noFill/>
          </a:ln>
        </p:spPr>
      </p:pic>
      <p:sp>
        <p:nvSpPr>
          <p:cNvPr id="227" name=""/>
          <p:cNvSpPr txBox="1"/>
          <p:nvPr/>
        </p:nvSpPr>
        <p:spPr>
          <a:xfrm>
            <a:off x="457200" y="129492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ow many students attend Green Hill Elementary Schoo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450720" y="-6480"/>
            <a:ext cx="7255080" cy="1158840"/>
          </a:xfrm>
          <a:prstGeom prst="rect">
            <a:avLst/>
          </a:prstGeom>
          <a:ln w="0">
            <a:noFill/>
          </a:ln>
        </p:spPr>
      </p:pic>
      <p:sp>
        <p:nvSpPr>
          <p:cNvPr id="229" name=""/>
          <p:cNvSpPr txBox="1"/>
          <p:nvPr/>
        </p:nvSpPr>
        <p:spPr>
          <a:xfrm>
            <a:off x="457200" y="1609560"/>
            <a:ext cx="7238880" cy="14385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f students sat 2 per table in a first grade room, how many tables would one class ne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4:07:59Z</dcterms:created>
  <dc:creator>127partidak</dc:creator>
  <dc:description/>
  <dc:language>en-US</dc:language>
  <cp:lastModifiedBy>127partidak</cp:lastModifiedBy>
  <dcterms:modified xsi:type="dcterms:W3CDTF">2011-12-16T13:40:31Z</dcterms:modified>
  <cp:revision>57</cp:revision>
  <dc:subject/>
  <dc:title>Information</dc:title>
</cp:coreProperties>
</file>